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E61-8226-480D-9173-7316BE5B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2BD-601C-49D2-A2F7-0FD9C2A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E62-7D67-47F1-8DFA-4A9FC9A1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B34-902F-4B43-B08A-08FF384F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8B94-5709-4679-92F7-CF076A7E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618-C805-4F23-B2BA-1B9EF5CA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ADE1-B615-4994-B841-33A86FD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8A3-886D-4D4E-A902-3DB5E99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616-D124-4A73-828B-6302527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A23E-798A-4C73-A779-9A7D31BC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CA0-6197-4425-A1A8-B964570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BEB-2BA3-49FE-BA10-B05B2F9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C04-487A-4B1D-B3D2-1671E8E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26A1-CC50-424C-9E35-3215BCC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6D7-C8A3-40EC-B1AD-32DB510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977-2366-47AA-81A4-1976A322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DE5-8147-4A17-AD53-B43A4EB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F361-0EE7-4D4A-8F16-C0CF3A9F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C826-66CC-43D4-925B-CFF37F01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FB10-9AD8-4B2D-B98A-A1E11D5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9B85-F141-4497-9B0A-068361D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7173-F57B-4306-B9A2-CBB715A9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94C-A22E-4BEE-BAF9-157FFC84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7185-88BA-494C-B699-785E94E1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7365-A583-4367-82ED-BAE4DD4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BB82-EB60-46EC-88F2-AA3D175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030C-A9D3-445C-8B09-D3E8D20B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6606-3C14-44F3-ABF0-C83D76D6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91B4-DAE7-42AA-A38A-BD89FE18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955A-BFFC-4C28-85B5-D167DE55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94B0-B6E5-4F66-9C28-0929040F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89A5-BF35-44F6-8DB0-604A991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158B-725F-46D1-9F3D-915E22CD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6AB-ED8B-4C55-B04C-019AF6C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7C4F-1DCD-4EE5-8606-41873AB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7605-0473-4E1C-B7F0-FB7DF8D9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DF59-664E-4AFF-B725-F5F2930E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5556-CA26-41A6-A861-45BC6179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01EB-987E-44ED-BF69-043FEA0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E4B8-5933-4EDE-880D-86AD5CB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806D-7ECB-464C-BA66-3C8D69F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96CD-BD36-4E18-85AA-EFEB79A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B4B5-1A27-4CE9-BA04-ACE4429A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FAAE-C00A-4B8F-8A0C-F2C94F7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3AE-72E6-4190-A9A5-F25F3A10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BCF7-BFD1-446D-80DE-84D6143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A88C-9F0C-4BFC-AE58-F4E3C5F1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A404-E221-4B62-AC94-21170E5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E5A2-9A58-4A57-AF67-4A769134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7D3D-0BA9-4811-8FE2-F36F92E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E46C-4EE1-4C31-AA36-2923C9F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1437-9A3F-4108-BF06-06CE0FF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8411-B8BF-4831-9C4A-116782D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53F2-4473-4D40-8CFA-3FF05E6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B74A-9F13-4531-92CC-A6F29B60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723-FDAD-4E6D-9E81-45DCFC1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726F-A8A4-4484-8166-9AE2AC5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3FE21-917A-45B1-B3DF-F49DB510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24FDD-6A05-41F3-9E2F-DECCC50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471E8-D6F2-42D8-A3DA-99E2543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8CCA-5669-47B4-9032-DA7AE230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6015-534E-4C80-B4BD-4536E02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B6C1-B868-4D33-9325-48C65F40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86BC-B902-4AB0-A69B-0C8691FF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6266-3DF8-4F4E-8E17-AEF48D3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539C-4613-48E8-8AAD-526B9D6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0D5-E337-448E-A374-3F61548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4D4B-618A-4252-9F95-6322791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E157-810F-41AF-B27F-27565938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D117-A2F5-4B03-A56A-4E00C6FE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BD84C-C688-4066-9ABA-67F1D27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863AA-705E-4A10-8684-EE3E6DF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93B9-9DB5-4F32-84D2-F2599A0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7312-BB1D-4B1F-BFA9-1FF9E41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0069-90D0-432C-8697-FD45EC5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50DF-CEF0-4818-BB45-613198F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B4D6-42A5-483D-BBFD-C54F43E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823-1CB5-4332-9ED5-C044E0E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2DE8F-9529-4A9D-ADF8-1D3FA2F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6DE3-CD35-40CD-B749-F684F92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819A-6C75-4CF0-B5B4-366C2D4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D8681-6248-4A45-AF09-6A12539D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DCFD3-D74E-44F0-8044-1BA215D6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6D2-765C-49F1-AEE1-E4E2974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7BB37-FC58-49B1-9EE9-7F117F84609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C2555-E77E-49B8-B2B7-5EA2EEEB0BA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D2FEC-155C-4297-AD36-0F0704E77B9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E7A9B-F793-4852-BAAD-3A2491081EA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866AA-6393-41B0-B082-CCB4E9E469E6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FB5E3-02DF-4423-97F0-883F784FBE2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0D72-196D-483C-80F9-2601B9287F6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776D3-0A88-45E0-A267-E77084FACE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CF62-654E-49EE-8D2F-73542A64905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23E85-02B7-4330-BCE0-DC999A1412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C291B-C430-4D6E-883C-2E89F55F310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E60D6-955B-4C3E-935F-CC45C7A6EC0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230A3-30F7-4130-B3BD-E98A32E50BD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60CB9-B13B-4481-B363-8952F2AFC3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2036880"/>
            <a:ext cx="8083440" cy="2998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images.jpg"/>
          <p:cNvPicPr/>
          <p:nvPr/>
        </p:nvPicPr>
        <p:blipFill>
          <a:blip r:embed="rId3"/>
          <a:stretch/>
        </p:blipFill>
        <p:spPr>
          <a:xfrm>
            <a:off x="1523880" y="342900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images1.jpg"/>
          <p:cNvPicPr/>
          <p:nvPr/>
        </p:nvPicPr>
        <p:blipFill>
          <a:blip r:embed="rId4"/>
          <a:stretch/>
        </p:blipFill>
        <p:spPr>
          <a:xfrm>
            <a:off x="5029200" y="3149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4079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82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nry Cl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Kentuck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vored national bank, protective tariffs, nationwide internal improvements (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The American Syste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rew Jacks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nnesse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roism at Battle of New Orlea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3" descr="images2.jpg"/>
          <p:cNvPicPr/>
          <p:nvPr/>
        </p:nvPicPr>
        <p:blipFill>
          <a:blip r:embed="rId2"/>
          <a:stretch/>
        </p:blipFill>
        <p:spPr>
          <a:xfrm>
            <a:off x="6289560" y="3747960"/>
            <a:ext cx="28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iam Crawfor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e Sou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es’ rights, strict interpretation of con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ohn Quincy Adam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ew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ionwide internal improvements, NO protective tarif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3" descr="images3.jpg"/>
          <p:cNvPicPr/>
          <p:nvPr/>
        </p:nvPicPr>
        <p:blipFill>
          <a:blip r:embed="rId2"/>
          <a:stretch/>
        </p:blipFill>
        <p:spPr>
          <a:xfrm>
            <a:off x="2057400" y="1774800"/>
            <a:ext cx="46483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body wins a majority in the Electoral Colle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minate lowest candidate (Cla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use of Representatives elects presid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Picture 3" descr="images4.jpg"/>
          <p:cNvPicPr/>
          <p:nvPr/>
        </p:nvPicPr>
        <p:blipFill>
          <a:blip r:embed="rId2"/>
          <a:stretch/>
        </p:blipFill>
        <p:spPr>
          <a:xfrm>
            <a:off x="2286000" y="3809880"/>
            <a:ext cx="45720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nry Clay (Speaker of the House) supports John Quincy Ada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ters are swayed toward Ada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ams wins, appoints Clay as Sec. of Sta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’s supporters cry foul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16" descr="images5.jpg"/>
          <p:cNvPicPr/>
          <p:nvPr/>
        </p:nvPicPr>
        <p:blipFill>
          <a:blip r:embed="rId2"/>
          <a:srcRect l="0" t="-25048" r="0" b="-25048"/>
          <a:stretch/>
        </p:blipFill>
        <p:spPr>
          <a:xfrm>
            <a:off x="4495680" y="1163520"/>
            <a:ext cx="4572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2" descr=""/>
          <p:cNvPicPr/>
          <p:nvPr/>
        </p:nvPicPr>
        <p:blipFill>
          <a:blip r:embed="rId2"/>
          <a:stretch/>
        </p:blipFill>
        <p:spPr>
          <a:xfrm>
            <a:off x="2468520" y="4492800"/>
            <a:ext cx="4054680" cy="158400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images6.jpg"/>
          <p:cNvPicPr/>
          <p:nvPr/>
        </p:nvPicPr>
        <p:blipFill>
          <a:blip r:embed="rId3"/>
          <a:srcRect l="0" t="-73468" r="0" b="-73468"/>
          <a:stretch/>
        </p:blipFill>
        <p:spPr>
          <a:xfrm>
            <a:off x="1905120" y="0"/>
            <a:ext cx="50292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dslinging campaig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 says Adams is a snob, a gambler, and is untrustwort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Content Placeholder 4" descr="images7.jpg"/>
          <p:cNvPicPr/>
          <p:nvPr/>
        </p:nvPicPr>
        <p:blipFill>
          <a:blip r:embed="rId2"/>
          <a:srcRect l="0" t="-22773" r="0" b="-22773"/>
          <a:stretch/>
        </p:blipFill>
        <p:spPr>
          <a:xfrm>
            <a:off x="4648320" y="1773360"/>
            <a:ext cx="40384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895120" y="1904760"/>
            <a:ext cx="403884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ACKSON WINS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images8.jpg"/>
          <p:cNvPicPr/>
          <p:nvPr/>
        </p:nvPicPr>
        <p:blipFill>
          <a:blip r:embed="rId2"/>
          <a:stretch/>
        </p:blipFill>
        <p:spPr>
          <a:xfrm>
            <a:off x="2743200" y="3162240"/>
            <a:ext cx="365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3:00:07Z</dcterms:created>
  <dc:creator>Moffa, David</dc:creator>
  <dc:description/>
  <dc:language>en-US</dc:language>
  <cp:lastModifiedBy>Moffa, David</cp:lastModifiedBy>
  <dcterms:modified xsi:type="dcterms:W3CDTF">2011-02-03T15:41:03Z</dcterms:modified>
  <cp:revision>27</cp:revision>
  <dc:subject/>
  <dc:title>The Elections of 1824 and 1828</dc:title>
</cp:coreProperties>
</file>